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D112-9109-4C23-858D-294159208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92D6-7006-4C41-9900-63CBACB32A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0EC1-3E74-4CA0-85A2-9D8764991B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6175-3C59-4498-89D8-466797E6706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A695-4F2C-4F6E-B7E5-C68378C929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7858-48F7-4B05-8858-4EFB831EE6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B834-3D20-46DF-9B0E-6D376A9338B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7AC-1B91-4095-BFFE-5D61FBEC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F322-FCF3-47D9-A935-4D6BFE8F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43A-65C5-4793-B710-94278C0D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DA0B-71C6-4D1B-9E4E-F65737A0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6DC4-6A5B-4CB7-9E8B-D6B78F3E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1C5B-0DA3-45F7-AFC2-FFAE9B53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A244-84C4-4B56-8516-2271E9AF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A633-F3DA-4781-B070-350096F1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411C-A09B-4BE7-9FC5-7857621F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6EEC-055C-422F-9143-488E1A59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65F4-2B15-45A7-83B6-1B9EAC0A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4EA-B586-4800-8EDB-AF27BB60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D9CF-150E-44D0-868D-E40914E2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8A86-F9E0-473D-89CA-E2D1D029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E9D3-42E3-48EC-BE5C-A2E9F717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B959-D91C-4DCC-BC27-3416AE46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A626-CE44-41F1-8009-12A7C909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452B-92F8-4AD8-A072-93990D9C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7D8-C86A-425E-B3D7-2D20ABD4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AF7C-A741-408D-B7B4-04AE0000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01D-D7F8-442A-ADCB-6CD71397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EC5-595A-4F7D-93D3-FA6D986C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3CB1-C583-4158-BB08-D97921AD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F90-0E45-4097-9CB6-28C809FD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7C3C-EF37-43CC-9D80-19C1EB26F2A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9D31-F153-435A-8F20-3B00D866894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3870360" y="214200"/>
            <a:ext cx="11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Comic Sans MS"/>
              </a:rPr>
              <a:t>Biliau t</a:t>
            </a:r>
            <a:r>
              <a:rPr b="0" lang="cy-GB" sz="2000" spc="-1" strike="noStrike" u="sng">
                <a:solidFill>
                  <a:srgbClr val="ffff00"/>
                </a:solidFill>
                <a:uFillTx/>
                <a:latin typeface="Comic Sans MS"/>
              </a:rPr>
              <a:t>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sample electricity bill"/>
          <p:cNvPicPr/>
          <p:nvPr/>
        </p:nvPicPr>
        <p:blipFill>
          <a:blip r:embed="rId1"/>
          <a:stretch/>
        </p:blipFill>
        <p:spPr>
          <a:xfrm>
            <a:off x="3071880" y="1500120"/>
            <a:ext cx="5630760" cy="4214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t1.gstatic.com/images?q=tbn:BjXxZlPY_4taAM:http://i.ehow.com/images/GlobalPhoto/Articles/4877084/electricmeterge-mainFull-main_Full.jpg"/>
          <p:cNvPicPr/>
          <p:nvPr/>
        </p:nvPicPr>
        <p:blipFill>
          <a:blip r:embed="rId2"/>
          <a:stretch/>
        </p:blipFill>
        <p:spPr>
          <a:xfrm>
            <a:off x="571680" y="2071800"/>
            <a:ext cx="2266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14200" y="80856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Mae Mr a Mrs Hutchings newydd dderbyn eu bil tryd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ar gyfer y chwarter o Ragfyr i Chwefror. Dyma fanylion y b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Darlleniad blaenorol y mesurydd 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SimSun"/>
              </a:rPr>
              <a:t>80349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Darlleniad presennol y mesurydd 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SimSun"/>
              </a:rPr>
              <a:t>8129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Cost yr uned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SimSun"/>
              </a:rPr>
              <a:t>7.6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ceiniog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Tâl sefydlog y chwarter 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SimSun"/>
              </a:rPr>
              <a:t>£10.7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(a) Cyfrifwch gyfanswm cost y trydan ar gyfer y chwarter o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Ragfyr i Chwefr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(b) Ychwanegir treth ar werth yn ôl y gyfradd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  <a:ea typeface="SimSun"/>
              </a:rPr>
              <a:t>5%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at filia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trydan. Faint yw bil trydan Mr a Mrs Hutchings 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gynnwys TA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315000" y="857160"/>
            <a:ext cx="36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Unedau a ddefnyddiwy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14720" y="1143000"/>
            <a:ext cx="5000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  <a:ea typeface="SimSun"/>
              </a:rPr>
              <a:t>81293 – 80349 = 944 u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406080" y="20718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st yr uned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071800" y="2357280"/>
            <a:ext cx="5000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  <a:ea typeface="SimSun"/>
              </a:rPr>
              <a:t>944 × 7.62 c = 7193.28 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715080" y="2357280"/>
            <a:ext cx="1857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SimSun"/>
              </a:rPr>
              <a:t>= £71.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528480" y="3714840"/>
            <a:ext cx="18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âl sefydl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715080" y="3357720"/>
            <a:ext cx="1857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SimSun"/>
              </a:rPr>
              <a:t>= £10.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302040" y="214200"/>
            <a:ext cx="5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4828680" y="44290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yfansw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715080" y="4143240"/>
            <a:ext cx="1857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SimSun"/>
              </a:rPr>
              <a:t>= £82.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17"/>
          <p:cNvGrpSpPr/>
          <p:nvPr/>
        </p:nvGrpSpPr>
        <p:grpSpPr>
          <a:xfrm>
            <a:off x="7072200" y="4357800"/>
            <a:ext cx="1214640" cy="715680"/>
            <a:chOff x="7072200" y="4357800"/>
            <a:chExt cx="1214640" cy="715680"/>
          </a:xfrm>
        </p:grpSpPr>
        <p:sp>
          <p:nvSpPr>
            <p:cNvPr id="104" name="Straight Connector 12"/>
            <p:cNvSpPr/>
            <p:nvPr/>
          </p:nvSpPr>
          <p:spPr>
            <a:xfrm flipH="1" flipV="1">
              <a:off x="7072200" y="4357800"/>
              <a:ext cx="12146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Group 16"/>
            <p:cNvGrpSpPr/>
            <p:nvPr/>
          </p:nvGrpSpPr>
          <p:grpSpPr>
            <a:xfrm>
              <a:off x="7072200" y="5000760"/>
              <a:ext cx="1214640" cy="72720"/>
              <a:chOff x="7072200" y="5000760"/>
              <a:chExt cx="1214640" cy="72720"/>
            </a:xfrm>
          </p:grpSpPr>
          <p:sp>
            <p:nvSpPr>
              <p:cNvPr id="106" name="Straight Connector 14"/>
              <p:cNvSpPr/>
              <p:nvPr/>
            </p:nvSpPr>
            <p:spPr>
              <a:xfrm flipH="1" flipV="1">
                <a:off x="7072200" y="5000760"/>
                <a:ext cx="1214640" cy="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Straight Connector 15"/>
              <p:cNvSpPr/>
              <p:nvPr/>
            </p:nvSpPr>
            <p:spPr>
              <a:xfrm flipH="1" flipV="1">
                <a:off x="7072200" y="5072040"/>
                <a:ext cx="1214640" cy="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TextBox 18"/>
          <p:cNvSpPr/>
          <p:nvPr/>
        </p:nvSpPr>
        <p:spPr>
          <a:xfrm>
            <a:off x="469080" y="5286240"/>
            <a:ext cx="8087400" cy="1191240"/>
          </a:xfrm>
          <a:prstGeom prst="rect">
            <a:avLst/>
          </a:prstGeom>
          <a:solidFill>
            <a:srgbClr val="7e6b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ydd cyfanswm y bìl rhywle rhwng £50 a £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s yw ateb mewn miloedd rydych wedi anghofio new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st yr unedau o geiniogau i bunnoed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1224360" y="164304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.A.W. (5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143080" y="1785960"/>
            <a:ext cx="27147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  <a:ea typeface="SimSun"/>
              </a:rPr>
              <a:t>0.05× £82.65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357880" y="1785960"/>
            <a:ext cx="1857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SimSun"/>
              </a:rPr>
              <a:t>= £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SimSun"/>
              </a:rPr>
              <a:t>4.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5214960" y="2571840"/>
            <a:ext cx="1857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SimSun"/>
              </a:rPr>
              <a:t>= £ 86.7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306360" y="214200"/>
            <a:ext cx="5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1135080" y="928800"/>
            <a:ext cx="40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yfanswm y bìl (cyn T.A.W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5214960" y="571680"/>
            <a:ext cx="1857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  <a:ea typeface="SimSu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SimSun"/>
              </a:rPr>
              <a:t>= £ 82.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11"/>
          <p:cNvGrpSpPr/>
          <p:nvPr/>
        </p:nvGrpSpPr>
        <p:grpSpPr>
          <a:xfrm>
            <a:off x="5500440" y="2714760"/>
            <a:ext cx="1571400" cy="715680"/>
            <a:chOff x="5500440" y="2714760"/>
            <a:chExt cx="1571400" cy="715680"/>
          </a:xfrm>
        </p:grpSpPr>
        <p:sp>
          <p:nvSpPr>
            <p:cNvPr id="117" name="Straight Connector 12"/>
            <p:cNvSpPr/>
            <p:nvPr/>
          </p:nvSpPr>
          <p:spPr>
            <a:xfrm flipH="1" flipV="1">
              <a:off x="5500440" y="2714760"/>
              <a:ext cx="15714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16"/>
            <p:cNvGrpSpPr/>
            <p:nvPr/>
          </p:nvGrpSpPr>
          <p:grpSpPr>
            <a:xfrm>
              <a:off x="5500440" y="3357720"/>
              <a:ext cx="1571400" cy="72720"/>
              <a:chOff x="5500440" y="3357720"/>
              <a:chExt cx="1571400" cy="72720"/>
            </a:xfrm>
          </p:grpSpPr>
          <p:sp>
            <p:nvSpPr>
              <p:cNvPr id="119" name="Straight Connector 14"/>
              <p:cNvSpPr/>
              <p:nvPr/>
            </p:nvSpPr>
            <p:spPr>
              <a:xfrm flipH="1" flipV="1">
                <a:off x="5500440" y="3357720"/>
                <a:ext cx="1571400" cy="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Straight Connector 15"/>
              <p:cNvSpPr/>
              <p:nvPr/>
            </p:nvSpPr>
            <p:spPr>
              <a:xfrm flipH="1" flipV="1">
                <a:off x="5500440" y="3429000"/>
                <a:ext cx="1571400" cy="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TextBox 16"/>
          <p:cNvSpPr/>
          <p:nvPr/>
        </p:nvSpPr>
        <p:spPr>
          <a:xfrm>
            <a:off x="989280" y="271476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yfanswm y bì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2556000" y="5214960"/>
            <a:ext cx="4537800" cy="459720"/>
          </a:xfrm>
          <a:prstGeom prst="rect">
            <a:avLst/>
          </a:prstGeom>
          <a:solidFill>
            <a:srgbClr val="7e6b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tebwch y daflen ar filiau sy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3917880" y="160200"/>
            <a:ext cx="11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00"/>
                </a:solidFill>
                <a:uFillTx/>
                <a:latin typeface="Comic Sans MS"/>
              </a:rPr>
              <a:t>Biliau t</a:t>
            </a:r>
            <a:r>
              <a:rPr b="0" lang="cy-GB" sz="2000" spc="-1" strike="noStrike" u="sng">
                <a:solidFill>
                  <a:srgbClr val="ffff00"/>
                </a:solidFill>
                <a:uFillTx/>
                <a:latin typeface="Comic Sans MS"/>
              </a:rPr>
              <a:t>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14200" y="881280"/>
            <a:ext cx="8429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7ed"/>
                </a:solidFill>
                <a:latin typeface="Comic Sans MS"/>
                <a:ea typeface="Times New Roman"/>
              </a:rPr>
              <a:t>Mae cyfrif trydan gyda </a:t>
            </a:r>
            <a:r>
              <a:rPr b="0" i="1" lang="en-US" sz="3200" spc="-1" strike="noStrike">
                <a:solidFill>
                  <a:srgbClr val="e9e7ed"/>
                </a:solidFill>
                <a:latin typeface="Comic Sans MS"/>
                <a:ea typeface="Times New Roman"/>
              </a:rPr>
              <a:t>Egni Cymru </a:t>
            </a:r>
            <a:r>
              <a:rPr b="0" lang="en-US" sz="3200" spc="-1" strike="noStrike">
                <a:solidFill>
                  <a:srgbClr val="e9e7ed"/>
                </a:solidFill>
                <a:latin typeface="Comic Sans MS"/>
                <a:ea typeface="Times New Roman"/>
              </a:rPr>
              <a:t>wedi’i ddangos isod, gyda rhai o’r cofnodion wedi’u dileu. Mae e’n talu am ei drydan drwy daliadau debyd uniongyrchol misol. Mae’n cael discownt o £24.25 am dalu yn y ffordd honn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7ed"/>
                </a:solidFill>
                <a:latin typeface="Comic Sans MS"/>
                <a:ea typeface="Times New Roman"/>
              </a:rPr>
              <a:t>Defnyddiwch y wybodaeth sydd wedi’i rhoi yn y cyfrif i lenwi’r holl gofnodion coll ac i gyfrifo’r gweddill (</a:t>
            </a:r>
            <a:r>
              <a:rPr b="0" i="1" lang="en-US" sz="3200" spc="-1" strike="noStrike">
                <a:solidFill>
                  <a:srgbClr val="e9e7ed"/>
                </a:solidFill>
                <a:latin typeface="Comic Sans MS"/>
                <a:ea typeface="Times New Roman"/>
              </a:rPr>
              <a:t>balance</a:t>
            </a:r>
            <a:r>
              <a:rPr b="0" lang="en-US" sz="3200" spc="-1" strike="noStrike">
                <a:solidFill>
                  <a:srgbClr val="e9e7ed"/>
                </a:solidFill>
                <a:latin typeface="Comic Sans MS"/>
                <a:ea typeface="Times New Roman"/>
              </a:rPr>
              <a:t>) yng nghyfrif Mr J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rcRect l="24165" t="21600" r="25054" b="9241"/>
          <a:stretch/>
        </p:blipFill>
        <p:spPr>
          <a:xfrm>
            <a:off x="500040" y="115920"/>
            <a:ext cx="8291520" cy="6557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19:11:14Z</dcterms:created>
  <dc:creator>Carwyn</dc:creator>
  <dc:description/>
  <dc:language>en-US</dc:language>
  <cp:lastModifiedBy>Carwyn</cp:lastModifiedBy>
  <dcterms:modified xsi:type="dcterms:W3CDTF">2009-11-04T22:06:25Z</dcterms:modified>
  <cp:revision>8</cp:revision>
  <dc:subject/>
  <dc:title>Slide 1</dc:title>
</cp:coreProperties>
</file>